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45A0-A92A-44E8-B7C3-C4C4552F61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F01D-9284-4EA7-8AA3-5FE95DDF6F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47B-20E9-4855-90D4-D641EA50F3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716C-7307-4F6B-87DF-93D795B84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6F55-D43E-4494-90EB-323AA67EDF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70F0-7874-410E-9B3C-780D047A7D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31A6-E229-4831-835C-8C895B5253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5128-4917-47E4-B198-3B2D609F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2CA6-BCD2-4309-9502-A3B9671C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9F51-2D9D-457E-B316-BAD98192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54B9-5167-4AC2-A3F4-61377857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E982-A7E2-4A4E-988B-CD9D802A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7CCD-8103-4381-A079-1415C84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40DC-73CF-4BC5-BD1E-81CAF89B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17C5-1DFC-4454-8198-CE7E96C1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096A-3E61-4AB8-B3AB-85862EC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031-FCD1-4BC7-8CC0-815E2598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412F-D42A-44E9-9033-610C5711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8D54-55F6-4195-8D1B-46E8686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B65D-3CF0-49A6-B39E-1B79E047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779E-C6C7-4421-84E3-445D08D5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AA15-8DEA-4D00-9723-A9F37D3C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98B6-87F1-4519-AD43-95FDE00E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2CD5-60EB-481B-8E0D-4C842269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ADB3C-BB2A-4B00-8CB4-31A7EC2F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3B03-D0CC-4603-A548-9C3A7DA6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B0B5-03C1-4E8A-91E7-FB54A82E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05D7-351F-44CF-B6D8-AC5D49F8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D677-2969-4A0B-B6B3-DDA813E9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E3D-EDCC-42B6-9272-5037C6AC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78A4C-2538-4968-B763-91D8D17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DA92-7126-4016-9F3F-B1E1108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38287-43A3-40B9-A5F4-9245F902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0592-09D7-4882-AC29-798A2A2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9216-0560-45E8-951D-E6C83A7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FCA51-5A9B-446B-8EAB-32972CA2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AAB4-2284-4EE9-8808-42910EB2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10B3-16DD-4899-A6D2-30224B9F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E3877-D672-49C0-B674-A2CD42A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97B1-E439-4242-BBC5-9D71CC75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F890-04E7-42A8-B85E-16775040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9714-EB78-4DF8-A28E-3F116958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89E6-FC13-45EC-AFCE-240D8A34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AD6B7-ADAD-499A-AC6A-B92934B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547D-1CE1-4D2E-899F-579335C8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B561-58B5-4CC2-8DBB-847B823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BE49E-5EE5-4C05-A283-1A68C441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5CCA0-AAB8-43B2-BDAB-9D79F671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7D8C4-19F3-4170-BDC4-2B8DC6B5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7539-46B9-4C24-9C56-92EB56C7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A7B56-3A1F-4EA8-86DA-7CD11F8E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61D4-19D8-41DF-A06E-D9B63ADD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522F-2CD3-43A9-AB91-AAE566CC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7E780-6C72-447E-83FB-332337A1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9366-ED84-4232-8BFD-FE10012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F996F-17F6-44EE-B580-FC4A395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9AB37-1D70-4916-954D-F66FB4A1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B4221-9761-489B-B938-753C1848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30FA9-BD11-43BC-94E2-659E4AA9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D484-48FF-4D8F-B5D8-92132C80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6C928-B453-49BF-9086-822A86DB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40F77-C87A-45DF-A834-BD48AF68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03DD-9C46-48E4-A49D-1F67B9B7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88077-4EB8-4122-B437-93110F9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8FD42-D4CB-4AA9-B725-382FDC69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F7DDD-D947-431D-9426-232037AA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27CCB-B130-4C96-B083-99D37EB9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56AF6-425D-4E90-A4AE-F471FE05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4374-26B2-4FCD-93FE-E4289561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015C2-6421-4252-83F8-38634D45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AA42F-FB9F-445F-91AA-DE5FE83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D496-9330-45DF-AC16-97375886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B39A-46E8-4E70-AA3A-F7635C60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2CF-1DF8-494A-8A83-BA10AA64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21AB9-35E3-4D31-B0E7-C51DD5BC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B4E96-B5BE-4D7B-BD80-74A14864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CB7A1-0947-4CE1-A162-AC96DA25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9D949-44CF-4F61-9180-6967DBD4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1B689-241D-4F83-AAD3-93DFACCC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1BD9-09B3-4636-B184-60476E91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C575C-D1ED-4FE5-B72C-77EB008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DDE5D-A599-4F5D-9E5A-8756A229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7C3EA-27D0-4FD6-8791-493D0C34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91891-03C6-4BC0-BE90-26CBEE7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ECF-59A7-4D12-8A5D-2B62CE4A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600A1-E948-4F00-94D7-742DC9C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41AE5-BF0E-4223-8C39-BD109A0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F63AD-7110-403B-B228-AF48EBC9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CD584-E217-431B-906C-30801549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E3D7-5669-472F-8124-F6E985BD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54323-5976-4F25-8113-C2DC561D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61A75-FBC0-436B-83EC-7F105BBE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A2986-55E0-4C52-8810-520B7288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AB7E-484B-4CA3-AA82-297624F0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85DC1-DF65-4135-B5F8-33CB99E6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86F-047E-4CA4-9D15-CAF7F466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C2E9-C6A9-4778-BA2A-1EC6B385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09059-3978-4E83-B5AD-80E8A258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1215F-517C-4144-942E-B1FCE2CE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784FE-907B-4E31-8183-1C6BD59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AF68-C549-4BF1-91BA-BDD584CB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2C649-BF6B-4234-973A-DBD261B8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24970-D746-46BC-A5D6-090EB1CA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881-0514-478E-BCD4-73F3C38A0E0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311-CE37-4FF7-8A40-E8B1722D60D8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7A39-8108-4432-9D60-75FE25BE4FA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35D2-368F-4462-AAC5-72836E6DDFB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B246-3A3F-4FAD-991C-091E4FA5BC5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E46-357F-4144-AE56-6B4B780829A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F082-E5E6-4A72-86D9-4B6F99BB08D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DE3C-4E5A-48F5-AB59-74203F1C3E0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WordArt 5"/>
          <p:cNvSpPr txBox="1"/>
          <p:nvPr/>
        </p:nvSpPr>
        <p:spPr>
          <a:xfrm>
            <a:off x="2286000" y="2071800"/>
            <a:ext cx="600084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Урок русского языка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379" name="TextBox 6"/>
          <p:cNvSpPr/>
          <p:nvPr/>
        </p:nvSpPr>
        <p:spPr>
          <a:xfrm>
            <a:off x="3071880" y="507204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ГУ СОШ №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Есекенова Салтанат Балаб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е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я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о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е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Облако 5"/>
          <p:cNvGrpSpPr/>
          <p:nvPr/>
        </p:nvGrpSpPr>
        <p:grpSpPr>
          <a:xfrm>
            <a:off x="4224240" y="1468440"/>
            <a:ext cx="976320" cy="1335240"/>
            <a:chOff x="4224240" y="1468440"/>
            <a:chExt cx="976320" cy="1335240"/>
          </a:xfrm>
        </p:grpSpPr>
        <p:pic>
          <p:nvPicPr>
            <p:cNvPr id="383" name="Облако 5" descr=""/>
            <p:cNvPicPr/>
            <p:nvPr/>
          </p:nvPicPr>
          <p:blipFill>
            <a:blip r:embed="rId2"/>
            <a:stretch/>
          </p:blipFill>
          <p:spPr>
            <a:xfrm>
              <a:off x="4224240" y="146844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4403880" y="168444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Облако 7"/>
          <p:cNvGrpSpPr/>
          <p:nvPr/>
        </p:nvGrpSpPr>
        <p:grpSpPr>
          <a:xfrm>
            <a:off x="4224240" y="4754520"/>
            <a:ext cx="976320" cy="1335240"/>
            <a:chOff x="4224240" y="4754520"/>
            <a:chExt cx="976320" cy="1335240"/>
          </a:xfrm>
        </p:grpSpPr>
        <p:pic>
          <p:nvPicPr>
            <p:cNvPr id="386" name="Облако 7" descr=""/>
            <p:cNvPicPr/>
            <p:nvPr/>
          </p:nvPicPr>
          <p:blipFill>
            <a:blip r:embed="rId3"/>
            <a:stretch/>
          </p:blipFill>
          <p:spPr>
            <a:xfrm>
              <a:off x="4224240" y="4754520"/>
              <a:ext cx="9763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4403880" y="4970520"/>
              <a:ext cx="5601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Облако 8"/>
          <p:cNvGrpSpPr/>
          <p:nvPr/>
        </p:nvGrpSpPr>
        <p:grpSpPr>
          <a:xfrm>
            <a:off x="4297320" y="2682720"/>
            <a:ext cx="969840" cy="1339920"/>
            <a:chOff x="4297320" y="2682720"/>
            <a:chExt cx="969840" cy="1339920"/>
          </a:xfrm>
        </p:grpSpPr>
        <p:pic>
          <p:nvPicPr>
            <p:cNvPr id="389" name="Облако 8" descr=""/>
            <p:cNvPicPr/>
            <p:nvPr/>
          </p:nvPicPr>
          <p:blipFill>
            <a:blip r:embed="rId4"/>
            <a:stretch/>
          </p:blipFill>
          <p:spPr>
            <a:xfrm>
              <a:off x="4297320" y="2682720"/>
              <a:ext cx="96984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4475160" y="2898720"/>
              <a:ext cx="5605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Облако 9"/>
          <p:cNvGrpSpPr/>
          <p:nvPr/>
        </p:nvGrpSpPr>
        <p:grpSpPr>
          <a:xfrm>
            <a:off x="4602240" y="3657600"/>
            <a:ext cx="1152360" cy="1212840"/>
            <a:chOff x="4602240" y="3657600"/>
            <a:chExt cx="1152360" cy="1212840"/>
          </a:xfrm>
        </p:grpSpPr>
        <p:pic>
          <p:nvPicPr>
            <p:cNvPr id="392" name="Облако 9" descr=""/>
            <p:cNvPicPr/>
            <p:nvPr/>
          </p:nvPicPr>
          <p:blipFill>
            <a:blip r:embed="rId5"/>
            <a:stretch/>
          </p:blipFill>
          <p:spPr>
            <a:xfrm>
              <a:off x="4602240" y="3657600"/>
              <a:ext cx="1152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 rot="1723200">
              <a:off x="4874760" y="3803400"/>
              <a:ext cx="5605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929040" y="1500120"/>
            <a:ext cx="342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б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ве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Мес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я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Л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Яг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Де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о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Lucida Sans Unicode"/>
              </a:rPr>
              <a:t>е</a:t>
            </a:r>
            <a:r>
              <a:rPr b="1" lang="ru-RU" sz="3600" spc="-1" strike="noStrike">
                <a:solidFill>
                  <a:srgbClr val="000099"/>
                </a:solidFill>
                <a:latin typeface="Lucida Sans Unicode"/>
              </a:rPr>
              <a:t>р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2"/>
          <p:cNvSpPr/>
          <p:nvPr/>
        </p:nvSpPr>
        <p:spPr>
          <a:xfrm>
            <a:off x="3000240" y="2000160"/>
            <a:ext cx="3571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1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2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3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4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eorgia"/>
              </a:rPr>
              <a:t>5</a:t>
            </a: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-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571840" y="15717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Ключ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"/>
          <p:cNvSpPr/>
          <p:nvPr/>
        </p:nvSpPr>
        <p:spPr>
          <a:xfrm>
            <a:off x="5429160" y="15001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Georgia"/>
              </a:rPr>
              <a:t>Оцен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5"/>
          <p:cNvSpPr/>
          <p:nvPr/>
        </p:nvSpPr>
        <p:spPr>
          <a:xfrm>
            <a:off x="4429080" y="2143080"/>
            <a:ext cx="4000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Нет ошибок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1     ошибка-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2    ошибки –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Georgia"/>
              </a:rPr>
              <a:t>Больше -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ВЫ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2786040" y="27860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714760" y="4214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5286240" y="27147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300024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2786040" y="5357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0"/>
          <p:cNvSpPr/>
          <p:nvPr/>
        </p:nvSpPr>
        <p:spPr>
          <a:xfrm>
            <a:off x="2714760" y="35002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11"/>
          <p:cNvSpPr/>
          <p:nvPr/>
        </p:nvSpPr>
        <p:spPr>
          <a:xfrm>
            <a:off x="535788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2"/>
          <p:cNvSpPr/>
          <p:nvPr/>
        </p:nvSpPr>
        <p:spPr>
          <a:xfrm>
            <a:off x="5429160" y="3429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5214960" y="47862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5143680" y="535788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2571840" y="1643040"/>
            <a:ext cx="5572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Распредели слова в два столб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5715000" y="21430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б…р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5"/>
          <p:cNvSpPr/>
          <p:nvPr/>
        </p:nvSpPr>
        <p:spPr>
          <a:xfrm>
            <a:off x="2857680" y="335772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мур…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2786040" y="2143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…лов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2786040" y="40006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ж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5643720" y="4143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еж…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5572080" y="342900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…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5572080" y="2786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ландыш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2786040" y="271476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за…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2857680" y="457200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дят…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14"/>
          <p:cNvSpPr/>
          <p:nvPr/>
        </p:nvSpPr>
        <p:spPr>
          <a:xfrm>
            <a:off x="2857680" y="528624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к…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15"/>
          <p:cNvSpPr/>
          <p:nvPr/>
        </p:nvSpPr>
        <p:spPr>
          <a:xfrm>
            <a:off x="2643120" y="150012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1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к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живет в лесу        2- </a:t>
            </a:r>
            <a:r>
              <a:rPr b="1" lang="ru-RU" sz="1800" spc="-1" strike="noStrike">
                <a:solidFill>
                  <a:srgbClr val="ff0000"/>
                </a:solidFill>
                <a:latin typeface="Lucida Sans Unicode"/>
              </a:rPr>
              <a:t>что</a:t>
            </a:r>
            <a:r>
              <a:rPr b="1" lang="ru-RU" sz="1800" spc="-1" strike="noStrike">
                <a:solidFill>
                  <a:srgbClr val="7030a0"/>
                </a:solidFill>
                <a:latin typeface="Lucida Sans Unicode"/>
              </a:rPr>
              <a:t> растет в л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6"/>
          <p:cNvSpPr/>
          <p:nvPr/>
        </p:nvSpPr>
        <p:spPr>
          <a:xfrm>
            <a:off x="2643120" y="1857240"/>
            <a:ext cx="564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писатель, щенок, дятел, читатель, олень, ученик, дед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еодушевленные</a:t>
            </a:r>
            <a:r>
              <a:rPr b="1" i="1" lang="ru-RU" sz="2400" spc="-1" strike="noStrike">
                <a:solidFill>
                  <a:srgbClr val="7030a0"/>
                </a:solidFill>
                <a:latin typeface="Georgia"/>
              </a:rPr>
              <a:t> – книга, орех, шкаф, загадка, грусть, перец, вол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Овал 15"/>
          <p:cNvSpPr/>
          <p:nvPr/>
        </p:nvSpPr>
        <p:spPr>
          <a:xfrm>
            <a:off x="2571840" y="1643040"/>
            <a:ext cx="1928880" cy="12859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Овал 17"/>
          <p:cNvSpPr/>
          <p:nvPr/>
        </p:nvSpPr>
        <p:spPr>
          <a:xfrm>
            <a:off x="4929120" y="2428920"/>
            <a:ext cx="1500120" cy="71424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18"/>
          <p:cNvSpPr/>
          <p:nvPr/>
        </p:nvSpPr>
        <p:spPr>
          <a:xfrm rot="21208800">
            <a:off x="2896920" y="4016520"/>
            <a:ext cx="1571400" cy="7855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59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Овал 23"/>
          <p:cNvSpPr/>
          <p:nvPr/>
        </p:nvSpPr>
        <p:spPr>
          <a:xfrm>
            <a:off x="6786720" y="192888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4"/>
          <p:cNvSpPr/>
          <p:nvPr/>
        </p:nvSpPr>
        <p:spPr>
          <a:xfrm>
            <a:off x="3857760" y="5286240"/>
            <a:ext cx="1000080" cy="57168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25"/>
          <p:cNvSpPr/>
          <p:nvPr/>
        </p:nvSpPr>
        <p:spPr>
          <a:xfrm>
            <a:off x="5072040" y="435780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26"/>
          <p:cNvSpPr/>
          <p:nvPr/>
        </p:nvSpPr>
        <p:spPr>
          <a:xfrm>
            <a:off x="6572160" y="3357720"/>
            <a:ext cx="1000080" cy="571320"/>
          </a:xfrm>
          <a:prstGeom prst="ellipse">
            <a:avLst/>
          </a:prstGeom>
          <a:gradFill rotWithShape="0">
            <a:gsLst>
              <a:gs pos="0">
                <a:srgbClr val="9eafd6"/>
              </a:gs>
              <a:gs pos="100000">
                <a:srgbClr val="dce3f6"/>
              </a:gs>
            </a:gsLst>
            <a:lin ang="16200000"/>
          </a:gradFill>
          <a:ln w="9360">
            <a:solidFill>
              <a:srgbClr val="39639d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Прямая со стрелкой 28"/>
          <p:cNvCxnSpPr/>
          <p:nvPr/>
        </p:nvCxnSpPr>
        <p:spPr>
          <a:xfrm>
            <a:off x="4500720" y="2499840"/>
            <a:ext cx="42912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6" name="Прямая со стрелкой 29"/>
          <p:cNvCxnSpPr/>
          <p:nvPr/>
        </p:nvCxnSpPr>
        <p:spPr>
          <a:xfrm flipH="1">
            <a:off x="3499560" y="3071520"/>
            <a:ext cx="72360" cy="78660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7" name="Прямая со стрелкой 31"/>
          <p:cNvCxnSpPr/>
          <p:nvPr/>
        </p:nvCxnSpPr>
        <p:spPr>
          <a:xfrm>
            <a:off x="6214680" y="3214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8" name="Прямая со стрелкой 32"/>
          <p:cNvCxnSpPr/>
          <p:nvPr/>
        </p:nvCxnSpPr>
        <p:spPr>
          <a:xfrm>
            <a:off x="4571640" y="435744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39" name="Прямая со стрелкой 33"/>
          <p:cNvCxnSpPr/>
          <p:nvPr/>
        </p:nvCxnSpPr>
        <p:spPr>
          <a:xfrm>
            <a:off x="3929040" y="4929120"/>
            <a:ext cx="286560" cy="28656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cxnSp>
        <p:nvCxnSpPr>
          <p:cNvPr id="440" name="Прямая со стрелкой 35"/>
          <p:cNvCxnSpPr/>
          <p:nvPr/>
        </p:nvCxnSpPr>
        <p:spPr>
          <a:xfrm flipV="1">
            <a:off x="6357600" y="2428200"/>
            <a:ext cx="429480" cy="143640"/>
          </a:xfrm>
          <a:prstGeom prst="straightConnector1">
            <a:avLst/>
          </a:prstGeom>
          <a:ln w="63360">
            <a:solidFill>
              <a:srgbClr val="39639d"/>
            </a:solidFill>
            <a:miter/>
            <a:tailEnd len="med" type="arrow" w="med"/>
          </a:ln>
        </p:spPr>
      </p:cxnSp>
      <p:sp>
        <p:nvSpPr>
          <p:cNvPr id="441" name="TextBox 38"/>
          <p:cNvSpPr/>
          <p:nvPr/>
        </p:nvSpPr>
        <p:spPr>
          <a:xfrm>
            <a:off x="4357800" y="1571760"/>
            <a:ext cx="33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Lucida Sans Unicode"/>
              </a:rPr>
              <a:t>Имя существ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Зимние рамки для детских фотографий – Весёлый снегов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WordArt 5"/>
          <p:cNvSpPr txBox="1"/>
          <p:nvPr/>
        </p:nvSpPr>
        <p:spPr>
          <a:xfrm>
            <a:off x="2286000" y="2357280"/>
            <a:ext cx="600084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за урок.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15:11Z</dcterms:created>
  <dc:creator>Oksana</dc:creator>
  <dc:description/>
  <dc:language>en-US</dc:language>
  <cp:lastModifiedBy>Дом</cp:lastModifiedBy>
  <dcterms:modified xsi:type="dcterms:W3CDTF">2014-10-16T05:12:06Z</dcterms:modified>
  <cp:revision>16</cp:revision>
  <dc:subject/>
  <dc:title>Слайд 1</dc:title>
</cp:coreProperties>
</file>